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4FA8-D5C2-4A04-AFD3-25ACD2D50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49B1-3CA6-4275-9F88-D49985315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0C8F-DDDB-40EE-8970-3EEA86115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6302-5F14-4BB9-A4BD-D8545758B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8A35C-2E00-494A-BBAC-6A7EB643A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DE22-1044-42AA-B662-D54F96618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38F5-9246-48F0-A3DF-398572020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14CD-853E-4823-A983-6E0C806882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312F0-4DFA-48C3-9448-34528A4547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46F8-A44E-4D61-8ECC-B41D1B2966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07D2D-16E7-438B-9F76-3785276079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E129-08C4-4649-B83E-517F0F6F31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D7E0-617A-4C90-B84A-3E5516EEA9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529B-A1C8-4ED0-A349-36C05C7332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AF0F1-6291-4147-8897-CD706591DA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9B296-95C1-4A08-A34D-9E3681BA1A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75382-496E-43A1-83A5-262EF49B0A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4D66A-9518-4C58-8653-D9921576B3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B9390-3085-4597-9009-00D9A65F4A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EABA-F218-4B8E-B0EC-63F98BF07E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237E-7FD4-4667-B44E-D89B5EEE9D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AE1C-B0E3-41B0-BFF8-C12A30D1E01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70E2-6623-4F20-98F3-D27CE7B67E7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10955-9B22-419A-B943-4876EA54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D9A06-CBFD-4F4A-9F21-EEA49753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BDDD5-A855-45B4-B1F4-2E6314EE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0B2F0-9CE9-43A4-AC6C-7C3143EA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D45B9-9BF0-4EF5-8DEF-297F418B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35DFA-50C5-4941-805A-98B8C756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C865D-FD31-49A0-8E43-9FE22D96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52D38-A7BF-4187-B8EB-1AA3D60E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79F73-6E0B-456F-89C3-620CCC6C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7140-16E3-4839-A6A7-4493E79F5A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324E5-3CD0-42D1-A602-F924EEB7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F4D11-8A54-4154-B93F-378DC0C6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4F4B1-3B8B-4C21-B81D-2956A43A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9A29-534C-416C-9C15-6744222E4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EA99-B42E-41CE-8810-AD3DAC360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0FB9-6F62-438C-940E-9E742ADC2B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F690-F19A-4619-97F8-118F98745F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3A3A-721D-4902-AD62-21312B8A2C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1 group work repo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120" y="3581280"/>
            <a:ext cx="5410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hirou, Sibiry, Gatien, Joseph, Naomie, Jerome, Anni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1 Construction of development domains within and across the project mega-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development domains developed so far by IFPRI require more granular data to become relevant within the GS megasite, including: ethnic/linguistic layers, livestock density, LGP, landscape physiography / elev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dure already applied for Ghana can be replicated in Mali and improved with feedback to Gh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PRI (Chris) will continue to lead that activity until complete, including field visits to be organized in conjunction with activity 1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CRISAT (Sibiry) will provide supplementary granular data to IFPRI (Chris) for stratification and domain delineation within the GS mega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CRISAT (Eva) will help organize Mali field visits by IFPRI (Chris) before end of Dece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2 Identification of action research sites within the development domains of each mega-site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 statement in project document on consultation with local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ed to identify Mali units of analysis similar to Ghana districts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rc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rrondisseme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ecteur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mmu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y can be executed concurrently with 1.1 (development domai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participants should include: Carlo, Chris, Sibiry, Larbi, Tahir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idging the scale gap in site selection should not only be through partners / expert opinion but also informed by more granular GIS data (cf. 1.1 abo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felt that there is flexibility still possible in action and/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contro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ites finalization in UER and N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3 Establishment of R4D platform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to Tanzania, Malawi and Ghana, need to review and inventory current FtF investments in Mali – where are they made, who was contracted for platform establishment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portunity to expand existing innovations platforms into R4D platforms (more dynamic, proacti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treatment site where there is no R4D platform (control sites will be selected outside the intervention domain of R4D platform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Mali, potential scale mismatch between administrative divisions and critical mass of villages for R4D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4 Collect baseline information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HH survey instrument for the BL? What level of customization for AR objectives / approach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sue of subcontracting for BL survey administration: IPA or likes? Level of subcontracting? Training onl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 data will not be used to revise action / control site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 data may be used to guide deployment of technology-based interventions (agronomy/farm-level) but likely not process-based interventions (community/landscape-leve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5 Construction of farm household typologi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PRI (Naomie) will lead with IITA (Bernard) inputs for CRP1.2 areas and ICRISAT (Gatien) inputs for CRP1.1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6 Inventorize innovation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7 Identification and prioritization of innovations addressing major constraint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modeling?? -&gt; participatory scenario analysis (to avoid over-commitmen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23232"/>
                </a:solidFill>
                <a:latin typeface="Calibri"/>
              </a:rPr>
              <a:t>Sequencing, responsibility, funding of O1 activities</a:t>
            </a:r>
            <a:endParaRPr b="0" lang="en-US" sz="29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981000"/>
          <a:ext cx="8218440" cy="5770800"/>
        </p:xfrm>
        <a:graphic>
          <a:graphicData uri="http://schemas.openxmlformats.org/drawingml/2006/table">
            <a:tbl>
              <a:tblPr/>
              <a:tblGrid>
                <a:gridCol w="3319560"/>
                <a:gridCol w="650880"/>
                <a:gridCol w="576000"/>
                <a:gridCol w="576360"/>
                <a:gridCol w="576360"/>
                <a:gridCol w="719280"/>
                <a:gridCol w="649080"/>
                <a:gridCol w="11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 Domains: IFPRI-Chris (L), ICRISAT-Sib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Sites: IFPRI-Carlo (L), IFPRI-Chris, IITA-Larbi, ICRISAT-Sib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IITA/ICRISAT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Platforms: IITA-Larbi (L), ICRISAT-Eva (co-L), ICRAF-Joach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/ICRISAT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Baselines: IFPRI-Carlo (L), IFPRI-M&amp;E officer, IITA-Tahirou, ICRAF-Joachim, ICRISAT-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Typologies: IFPRI-Naomie (L), IITA-Bernard, ICRISAT-Gat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CRP1.1/1.2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Innovations: IITA-Larbi (L), ICRISAT-Eva (co-L), M&amp;E offi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IITA/ICRISAT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 Prioritizations: IITA-Larbi (L), ICRISAT-Eva (co-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/ICRISAT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 Sy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30T10:21:02Z</dcterms:modified>
  <cp:revision>20</cp:revision>
  <dc:subject/>
  <dc:title>Slide 1</dc:title>
</cp:coreProperties>
</file>